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B89-E2D6-44DC-A582-599606B9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C68-87E3-4F25-AA0A-F3B4BBB6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775-FA4D-435F-831F-AC40C094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5A3-0D56-4228-BD96-D318C17B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906-D3EA-47E1-8276-8072C540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195-3298-479F-A8A7-2D954689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6500-ECAD-4AE9-8D28-3D845FBB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BFB-0119-47CC-A51D-69981200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B62-02BD-4005-957B-5DF70B2F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F92-47AC-489F-994B-09C8374E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6B2-AAB4-4B5D-8D53-A81B646C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7A5-A203-4BD6-A1CE-7F4D48F2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4229-63D9-4A7B-95A7-DA402539C0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1" descr=""/>
          <p:cNvPicPr/>
          <p:nvPr/>
        </p:nvPicPr>
        <p:blipFill>
          <a:blip r:embed="rId1"/>
          <a:stretch/>
        </p:blipFill>
        <p:spPr>
          <a:xfrm>
            <a:off x="3924360" y="174600"/>
            <a:ext cx="5145120" cy="646200"/>
          </a:xfrm>
          <a:prstGeom prst="rect">
            <a:avLst/>
          </a:prstGeom>
          <a:ln w="0">
            <a:noFill/>
          </a:ln>
        </p:spPr>
      </p:pic>
      <p:pic>
        <p:nvPicPr>
          <p:cNvPr id="42" name="Obrázek 2" descr=""/>
          <p:cNvPicPr/>
          <p:nvPr/>
        </p:nvPicPr>
        <p:blipFill>
          <a:blip r:embed="rId2"/>
          <a:stretch/>
        </p:blipFill>
        <p:spPr>
          <a:xfrm>
            <a:off x="95400" y="174600"/>
            <a:ext cx="21002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07:51:24Z</dcterms:created>
  <dc:creator>prihonskai</dc:creator>
  <dc:description/>
  <dc:language>en-US</dc:language>
  <cp:lastModifiedBy>Kostelníková Ludmila</cp:lastModifiedBy>
  <dcterms:modified xsi:type="dcterms:W3CDTF">2013-08-01T09:04:27Z</dcterms:modified>
  <cp:revision>4</cp:revision>
  <dc:subject/>
  <dc:title>Prezentace aplikace PowerPoint</dc:title>
</cp:coreProperties>
</file>